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6F05-4647-42AC-BF24-E90A14C27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B697-5888-4169-A926-DADF3F99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142B-2BE2-443B-8D3B-7A3C43112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5AFD-D728-46C0-ADCC-395008939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B03D-5E74-43FF-9201-D8CBAF18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8726-AA40-4EE5-956D-5F788920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1ABA-6585-4DB8-960F-3A3E2616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E82F-7147-4EDB-AFE1-5BFC81FE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74CD-AD0B-4083-A086-B6E90C54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DA06-DFB9-4F89-A0F4-70347792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4D68-2CF9-445C-A08D-223F9580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1E0B-D742-4EDC-85FE-A7A43AEB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6FBB-F7E2-4F9A-97AE-00A5CABF3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_ Clase 6 nh (602)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4 de febrero del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38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refieres jugar béisbol o futb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b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1914480" cy="1905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743200" y="4038480"/>
            <a:ext cx="1828800" cy="1667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800600" y="4114800"/>
            <a:ext cx="2266920" cy="1569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077240" y="3276720"/>
            <a:ext cx="2066760" cy="2361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V="1">
            <a:off x="2971800" y="380952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638320" y="419076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05720" y="5562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34120" y="609480"/>
            <a:ext cx="2028600" cy="2257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191120" y="4191120"/>
            <a:ext cx="2581200" cy="1771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57200" y="4697280"/>
            <a:ext cx="2895480" cy="2160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H="1">
            <a:off x="4876560" y="1523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81680" y="2362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56600" y="4191120"/>
            <a:ext cx="1787400" cy="1484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304920" y="152280"/>
            <a:ext cx="2724120" cy="2567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838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609120" y="8380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14 (1-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istorieta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14 (1-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p. 8-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3048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3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9T15:34:41Z</dcterms:created>
  <dc:creator>Helen Zumaeta</dc:creator>
  <dc:description/>
  <dc:language>en-US</dc:language>
  <cp:lastModifiedBy>Helen Zumaeta</cp:lastModifiedBy>
  <dcterms:modified xsi:type="dcterms:W3CDTF">2013-02-04T18:54:20Z</dcterms:modified>
  <cp:revision>8</cp:revision>
  <dc:subject/>
  <dc:title>Me llamo _________ Clase 6 nh/il La fecha es el 9 de mayo del 2011</dc:title>
</cp:coreProperties>
</file>